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8A16-F482-451A-8B2C-368901050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E52A-A843-494E-AA7D-22093503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6FB1-9DD7-4C76-8E81-E8EC1B24D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EA6A-0916-426B-A21F-AEE9C1C6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FEC-C3C1-4B58-B864-1E41B366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770-0DEE-4A58-8CE2-5EA04685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CED-D162-47FF-A0C7-C2F1747C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09D-D9F8-4ED7-B43B-DE5F7BB8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5C2-759D-480D-9ABF-56DFD361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1E7-1D7A-4F4F-B870-AF188AB9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0B2-E6E3-4980-9844-675E6234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56D-9391-4C3E-A5A4-3248CBC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AEA-DB5A-403C-82FC-8E1CC34E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8D3-0428-4D28-B984-3CDCB302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0D3-B3B2-4589-9842-5A3B38E2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3A11-DB75-4532-96B8-A90E2CB4E4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49600" y="3389400"/>
            <a:ext cx="5419440" cy="14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2682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AFRICA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search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ustainabl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tensification for th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xt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amale, Ghana, 9-12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8" descr=""/>
          <p:cNvPicPr/>
          <p:nvPr/>
        </p:nvPicPr>
        <p:blipFill>
          <a:blip r:embed="rId3"/>
          <a:stretch/>
        </p:blipFill>
        <p:spPr>
          <a:xfrm>
            <a:off x="378000" y="1805040"/>
            <a:ext cx="861984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line, current activities, projecte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 of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act Evaluation and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6"/>
          <p:cNvSpPr/>
          <p:nvPr/>
        </p:nvSpPr>
        <p:spPr>
          <a:xfrm>
            <a:off x="444600" y="501156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171440" y="436680"/>
            <a:ext cx="66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 1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14200" y="183996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1200600" y="2697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-&gt; Indicato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762720" y="3662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3563640" y="4071600"/>
            <a:ext cx="2718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&amp;E Immediat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1419120"/>
            <a:ext cx="813744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of basel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farming systems (ref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sites and research activities to help design/create Component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frame activities/indicators -&gt; M&amp;E fin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IFPRI vs Implementation partner indicator/surve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USAID FtF M&amp;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M&amp;E collaboration arrangements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PRI/SARI-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CRISAT/IER-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2146320"/>
            <a:ext cx="1905120" cy="14288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R, SARI, Stats Offices, DHS, IFPRI, WB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0880" y="3879720"/>
            <a:ext cx="1876680" cy="22860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Project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onitoring (Indicator)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Additional evalu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76720" y="2736720"/>
            <a:ext cx="2590560" cy="22482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S/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(-Livestock)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etr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9"/>
          <p:cNvCxnSpPr>
            <a:stCxn id="83" idx="3"/>
            <a:endCxn id="84" idx="1"/>
          </p:cNvCxnSpPr>
          <p:nvPr/>
        </p:nvCxnSpPr>
        <p:spPr>
          <a:xfrm flipV="1">
            <a:off x="2257200" y="3860640"/>
            <a:ext cx="1019880" cy="1162440"/>
          </a:xfrm>
          <a:prstGeom prst="bentConnector3">
            <a:avLst>
              <a:gd name="adj1" fmla="val 50000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86" name="Rectangle 10"/>
          <p:cNvSpPr/>
          <p:nvPr/>
        </p:nvSpPr>
        <p:spPr>
          <a:xfrm>
            <a:off x="6499080" y="2146320"/>
            <a:ext cx="2057400" cy="34862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ual projections of scaled up/out potential project impacts over next 30-50 years by region, country, SS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27760" y="333360"/>
            <a:ext cx="844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ions of Potential Project Impa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Scale and Over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6"/>
          <p:cNvCxnSpPr/>
          <p:nvPr/>
        </p:nvCxnSpPr>
        <p:spPr>
          <a:xfrm>
            <a:off x="5867280" y="3870000"/>
            <a:ext cx="6105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9" name="Elbow Connector 2"/>
          <p:cNvCxnSpPr>
            <a:stCxn id="82" idx="3"/>
            <a:endCxn id="84" idx="1"/>
          </p:cNvCxnSpPr>
          <p:nvPr/>
        </p:nvCxnSpPr>
        <p:spPr>
          <a:xfrm>
            <a:off x="2286000" y="2860560"/>
            <a:ext cx="991440" cy="1000800"/>
          </a:xfrm>
          <a:prstGeom prst="bentConnector3">
            <a:avLst>
              <a:gd name="adj1" fmla="val 49981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7:43:59Z</dcterms:created>
  <dc:creator>Luca Pellerano</dc:creator>
  <dc:description/>
  <dc:language>en-US</dc:language>
  <cp:lastModifiedBy>PBallantyne</cp:lastModifiedBy>
  <dcterms:modified xsi:type="dcterms:W3CDTF">2012-01-17T05:56:30Z</dcterms:modified>
  <cp:revision>50</cp:revision>
  <dc:subject/>
  <dc:title>Slide 1</dc:title>
</cp:coreProperties>
</file>